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11.jpeg" ContentType="image/jpeg"/>
  <Override PartName="/ppt/media/image13.wmf" ContentType="image/x-wmf"/>
  <Override PartName="/ppt/media/image8.jpeg" ContentType="image/jpeg"/>
  <Override PartName="/ppt/media/image5.png" ContentType="image/png"/>
  <Override PartName="/ppt/media/image10.gif" ContentType="image/gif"/>
  <Override PartName="/ppt/media/image9.wmf" ContentType="image/x-wmf"/>
  <Override PartName="/ppt/media/image20.gif" ContentType="image/gif"/>
  <Override PartName="/ppt/media/image19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28631-56F8-48D6-AD09-D80BFD0A8B98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94CC5-8A29-4809-A1DB-7BE0C0350DA4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C0C1-21C9-40A3-B1A9-5C21FA899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2E53-07A2-48ED-B721-60C6D9011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64C9-2F44-450A-9E80-A8AB8F30F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490B-6750-4C18-B916-C26503B17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5EE29-EEDF-49EB-A998-ACC79F33D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520C5-3A7E-4342-BFC5-96B9EA799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499F2-A7A3-4631-8BCE-037D896D7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D7C22-C3D9-4350-9A1D-8CF587E2B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66BEF-71C3-416D-96FC-4E3898726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CBAC9-CA5F-4841-9A1D-EBFBF3B09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91F11-7128-475E-BC9A-E4B35352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7ED2-AFBD-421C-8F2B-CDFE1E248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78DE0-DF5E-434B-9A8C-C0A0F7310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4078F-EA46-4753-8869-2D1665AB4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0EEF7-1953-4919-821E-8FBFCEF59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161B2-0A54-4963-8622-B9C662677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35CAD-0912-4870-B3CA-DB0EB9A60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32446-519F-4590-A2EB-41E1EEB33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922BF-5F49-43E1-A24F-59070BFF1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5C348-A9CD-474C-86E3-D317B1687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C92E4-F3C3-4A54-8572-7F915268D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C0B64-3D27-4DA0-83E3-F61E92A47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FFD0-3E0E-46BF-AD8D-6AB7946CF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F6978-97E1-4759-84D5-6945963B6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E6C4A-76BE-412A-AC1F-A6D1B214E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90B51-1DF1-4F86-B4A1-955C20B3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4E1DC-EE6E-4D04-8BD7-D164E19F8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3D6E1-E4D7-4397-99F9-136720653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554D5-F6B9-46BE-ABD4-382B4B094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7371F-5E9F-454C-B699-526DA7FAF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C218D-5077-4F4C-9159-742F9C0AE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1AEF8-20F4-47E5-9375-22705A9A0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B5E7A-A3D5-4C02-9BF4-BB37A3ED7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5AAA-4364-467A-9133-219D89C28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37057-9A80-4FF4-85E2-6C9881E0E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F306D-1A0E-42EB-BE74-9A39B327C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8E60F-B9BD-494E-9B28-1CB64C371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6D07D-55AF-474D-BF5E-1E27750CD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39B8A-3B43-4F75-BE0F-BDCC1C267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70AED-BA7D-47DD-95F0-9B425F3CD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44727-5BDC-4A93-BC7C-203B70C4D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62EA9-1B86-413F-A7C7-B13D3171C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637B9-4994-4968-8042-FE269489D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1502-563C-4763-A2EB-B265A1386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150A-1C94-4E99-9161-2A5614175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9D2E-0BA2-4FF5-B42A-2F4AD9CFE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EEC2-FE3F-4021-9A55-F4609872C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B00C-889E-4676-935C-BBC3F3258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4A2D1-BAF7-46CD-9B08-7006BEB6B31E}" type="slidenum">
              <a:rPr b="0" lang="en-A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8C8EA-A4C8-4A89-9743-B9E83ED480B1}" type="slidenum">
              <a:rPr b="0" lang="en-A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0C467-4003-4D40-830E-57BE20F7F2B4}" type="slidenum">
              <a:rPr b="0" lang="en-A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EC8C8-CC76-4F45-B2E6-5DE0DEED58E9}" type="slidenum">
              <a:rPr b="0" lang="en-A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9.xml"/><Relationship Id="rId10" Type="http://schemas.openxmlformats.org/officeDocument/2006/relationships/slide" Target="slide10.xml"/><Relationship Id="rId11" Type="http://schemas.openxmlformats.org/officeDocument/2006/relationships/slide" Target="slide11.xml"/><Relationship Id="rId12" Type="http://schemas.openxmlformats.org/officeDocument/2006/relationships/slide" Target="slide12.xml"/><Relationship Id="rId13" Type="http://schemas.openxmlformats.org/officeDocument/2006/relationships/slideLayout" Target="../slideLayouts/slideLayout13.xml"/><Relationship Id="rId1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633240" y="-23760"/>
            <a:ext cx="7864560" cy="17431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1213920"/>
            <a:ext cx="7854840" cy="52866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 u="sng">
                <a:solidFill>
                  <a:srgbClr val="e2d700"/>
                </a:solidFill>
                <a:uFillTx/>
                <a:latin typeface="Constantia"/>
                <a:hlinkClick r:id="rId2" action="ppaction://hlinksldjump"/>
              </a:rPr>
              <a:t>Autopilo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 u="sng">
                <a:solidFill>
                  <a:srgbClr val="e2d700"/>
                </a:solidFill>
                <a:uFillTx/>
                <a:latin typeface="Constantia"/>
                <a:hlinkClick r:id="rId3" action="ppaction://hlinksldjump"/>
              </a:rPr>
              <a:t>Descend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 u="sng">
                <a:solidFill>
                  <a:srgbClr val="e2d700"/>
                </a:solidFill>
                <a:uFillTx/>
                <a:latin typeface="Constantia"/>
                <a:hlinkClick r:id="rId4" action="ppaction://hlinksldjump"/>
              </a:rPr>
              <a:t>Rad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 u="sng">
                <a:solidFill>
                  <a:srgbClr val="e2d700"/>
                </a:solidFill>
                <a:uFillTx/>
                <a:latin typeface="Constantia"/>
                <a:hlinkClick r:id="rId5" action="ppaction://hlinksldjump"/>
              </a:rPr>
              <a:t>Thrus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 u="sng">
                <a:solidFill>
                  <a:srgbClr val="e2d700"/>
                </a:solidFill>
                <a:uFillTx/>
                <a:latin typeface="Constantia"/>
                <a:hlinkClick r:id="rId6" action="ppaction://hlinksldjump"/>
              </a:rPr>
              <a:t>Flap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 u="sng">
                <a:solidFill>
                  <a:srgbClr val="e2d700"/>
                </a:solidFill>
                <a:uFillTx/>
                <a:latin typeface="Constantia"/>
                <a:hlinkClick r:id="rId7" action="ppaction://hlinksldjump"/>
              </a:rPr>
              <a:t>Launch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 u="sng">
                <a:solidFill>
                  <a:srgbClr val="e2d700"/>
                </a:solidFill>
                <a:uFillTx/>
                <a:latin typeface="Constantia"/>
                <a:hlinkClick r:id="rId8" action="ppaction://hlinksldjump"/>
              </a:rPr>
              <a:t>Alof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 u="sng">
                <a:solidFill>
                  <a:srgbClr val="e2d700"/>
                </a:solidFill>
                <a:uFillTx/>
                <a:latin typeface="Constantia"/>
                <a:hlinkClick r:id="rId9" action="ppaction://hlinksldjump"/>
              </a:rPr>
              <a:t>Engin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 u="sng">
                <a:solidFill>
                  <a:srgbClr val="e2d700"/>
                </a:solidFill>
                <a:uFillTx/>
                <a:latin typeface="Constantia"/>
                <a:hlinkClick r:id="rId10" action="ppaction://hlinksldjump"/>
              </a:rPr>
              <a:t>Prop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 u="sng">
                <a:solidFill>
                  <a:srgbClr val="e2d700"/>
                </a:solidFill>
                <a:uFillTx/>
                <a:latin typeface="Constantia"/>
                <a:hlinkClick r:id="rId11" action="ppaction://hlinksldjump"/>
              </a:rPr>
              <a:t>Propelle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Box 3"/>
          <p:cNvSpPr/>
          <p:nvPr/>
        </p:nvSpPr>
        <p:spPr>
          <a:xfrm>
            <a:off x="500040" y="585792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e2d700"/>
                </a:solidFill>
                <a:uFillTx/>
                <a:latin typeface="Arial"/>
                <a:hlinkClick r:id="rId12" action="ppaction://hlinksldjump"/>
              </a:rPr>
              <a:t>End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prope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Planes propel themselves through the ai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7" name="Picture 4" descr="d:\Users\harrisonv.STAWELL-PS\AppData\Local\Microsoft\Windows\Temporary Internet Files\Content.IE5\F3P6WDAJ\MPj04224400000[1].jpg"/>
          <p:cNvPicPr/>
          <p:nvPr/>
        </p:nvPicPr>
        <p:blipFill>
          <a:blip r:embed="rId1"/>
          <a:stretch/>
        </p:blipFill>
        <p:spPr>
          <a:xfrm>
            <a:off x="3714840" y="2928960"/>
            <a:ext cx="4929120" cy="3500280"/>
          </a:xfrm>
          <a:prstGeom prst="rect">
            <a:avLst/>
          </a:prstGeom>
          <a:ln w="0">
            <a:noFill/>
          </a:ln>
        </p:spPr>
      </p:pic>
      <p:sp>
        <p:nvSpPr>
          <p:cNvPr id="238" name="TextBox 4"/>
          <p:cNvSpPr/>
          <p:nvPr/>
        </p:nvSpPr>
        <p:spPr>
          <a:xfrm>
            <a:off x="571680" y="550080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Back to gloss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Propel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A propeller  spins to push the plane forwards by the air passing through i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1" name="Picture 4" descr="C:\Program Files\Microsoft Office\Media\CntCD1\Photo1\j0201295.jpg"/>
          <p:cNvPicPr/>
          <p:nvPr/>
        </p:nvPicPr>
        <p:blipFill>
          <a:blip r:embed="rId1"/>
          <a:stretch/>
        </p:blipFill>
        <p:spPr>
          <a:xfrm>
            <a:off x="3664080" y="2643120"/>
            <a:ext cx="5113080" cy="37148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428760" y="5429160"/>
            <a:ext cx="27144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Arial"/>
              </a:rPr>
              <a:t>Back to glossar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Title 1" descr=""/>
          <p:cNvPicPr/>
          <p:nvPr/>
        </p:nvPicPr>
        <p:blipFill>
          <a:blip r:embed="rId1"/>
          <a:stretch/>
        </p:blipFill>
        <p:spPr>
          <a:xfrm>
            <a:off x="493560" y="493560"/>
            <a:ext cx="7864560" cy="12020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" descr="d:\Users\harrisonv.STAWELL-PS\AppData\Local\Microsoft\Windows\Temporary Internet Files\Content.IE5\7JZ9NZVQ\MCj04347550000[1].png"/>
          <p:cNvPicPr/>
          <p:nvPr/>
        </p:nvPicPr>
        <p:blipFill>
          <a:blip r:embed="rId2"/>
          <a:stretch/>
        </p:blipFill>
        <p:spPr>
          <a:xfrm>
            <a:off x="642960" y="1643040"/>
            <a:ext cx="2500200" cy="25002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" descr="C:\Program Files\Microsoft Office\Media\CntCD1\Animated\j0236323.gif"/>
          <p:cNvPicPr/>
          <p:nvPr/>
        </p:nvPicPr>
        <p:blipFill>
          <a:blip r:embed="rId3"/>
          <a:stretch/>
        </p:blipFill>
        <p:spPr>
          <a:xfrm>
            <a:off x="5286240" y="1643040"/>
            <a:ext cx="3143520" cy="2308320"/>
          </a:xfrm>
          <a:prstGeom prst="rect">
            <a:avLst/>
          </a:prstGeom>
          <a:ln w="0">
            <a:noFill/>
          </a:ln>
        </p:spPr>
      </p:pic>
      <p:sp>
        <p:nvSpPr>
          <p:cNvPr id="246" name="TextBox 6"/>
          <p:cNvSpPr/>
          <p:nvPr/>
        </p:nvSpPr>
        <p:spPr>
          <a:xfrm>
            <a:off x="2786040" y="5072040"/>
            <a:ext cx="2571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Arial"/>
              </a:rPr>
              <a:t>End show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Title 1" descr=""/>
          <p:cNvPicPr/>
          <p:nvPr/>
        </p:nvPicPr>
        <p:blipFill>
          <a:blip r:embed="rId1"/>
          <a:stretch/>
        </p:blipFill>
        <p:spPr>
          <a:xfrm>
            <a:off x="566640" y="407880"/>
            <a:ext cx="7864560" cy="11588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285480" y="1499760"/>
            <a:ext cx="8102520" cy="43578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Constantia"/>
              </a:rPr>
              <a:t>Meaning: autopilot is a system that controls the plane without human help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Constantia"/>
              </a:rPr>
              <a:t>Back to glossar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7" name="Picture 4" descr="d:\Users\harrisonv.STAWELL-PS\AppData\Local\Microsoft\Windows\Temporary Internet Files\Content.IE5\7JZ9NZVQ\MPj04224260000[1].jpg"/>
          <p:cNvPicPr/>
          <p:nvPr/>
        </p:nvPicPr>
        <p:blipFill>
          <a:blip r:embed="rId2"/>
          <a:stretch/>
        </p:blipFill>
        <p:spPr>
          <a:xfrm>
            <a:off x="2714760" y="2428920"/>
            <a:ext cx="6072120" cy="3781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500" spc="-1" strike="noStrike">
                <a:solidFill>
                  <a:srgbClr val="04617b"/>
                </a:solidFill>
                <a:latin typeface="Calibri"/>
              </a:rPr>
              <a:t>Descend 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500040" y="13568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Meaning: descend means going down 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4" descr="C:\Program Files\Microsoft Office\Media\CntCD1\ClipArt4\j0252775.wmf"/>
          <p:cNvPicPr/>
          <p:nvPr/>
        </p:nvPicPr>
        <p:blipFill>
          <a:blip r:embed="rId1"/>
          <a:stretch/>
        </p:blipFill>
        <p:spPr>
          <a:xfrm>
            <a:off x="1643040" y="2806560"/>
            <a:ext cx="6237360" cy="3480120"/>
          </a:xfrm>
          <a:prstGeom prst="rect">
            <a:avLst/>
          </a:prstGeom>
          <a:ln w="0">
            <a:noFill/>
          </a:ln>
        </p:spPr>
      </p:pic>
      <p:sp>
        <p:nvSpPr>
          <p:cNvPr id="211" name="TextBox 4"/>
          <p:cNvSpPr/>
          <p:nvPr/>
        </p:nvSpPr>
        <p:spPr>
          <a:xfrm>
            <a:off x="357120" y="5715000"/>
            <a:ext cx="15001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 u="sng">
                <a:solidFill>
                  <a:srgbClr val="e2d700"/>
                </a:solidFill>
                <a:uFillTx/>
                <a:latin typeface="Arial"/>
                <a:hlinkClick r:id="rId2" action="ppaction://hlinksldjump"/>
              </a:rPr>
              <a:t>Back to glossar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Rad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28760" y="18568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A radar is a computer that can track planes and ship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4" name="Picture 3" descr="C:\Program Files\Microsoft Office\Media\CntCD1\Animated\j0234742.gif"/>
          <p:cNvPicPr/>
          <p:nvPr/>
        </p:nvPicPr>
        <p:blipFill>
          <a:blip r:embed="rId1"/>
          <a:stretch/>
        </p:blipFill>
        <p:spPr>
          <a:xfrm>
            <a:off x="2000160" y="2819520"/>
            <a:ext cx="4572000" cy="3395520"/>
          </a:xfrm>
          <a:prstGeom prst="rect">
            <a:avLst/>
          </a:prstGeom>
          <a:ln w="0">
            <a:noFill/>
          </a:ln>
        </p:spPr>
      </p:pic>
      <p:sp>
        <p:nvSpPr>
          <p:cNvPr id="215" name="TextBox 5"/>
          <p:cNvSpPr/>
          <p:nvPr/>
        </p:nvSpPr>
        <p:spPr>
          <a:xfrm>
            <a:off x="285840" y="5786280"/>
            <a:ext cx="17859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 u="sng">
                <a:solidFill>
                  <a:srgbClr val="e2d700"/>
                </a:solidFill>
                <a:uFillTx/>
                <a:latin typeface="Arial"/>
                <a:hlinkClick r:id="rId2" action="ppaction://hlinksldjump"/>
              </a:rPr>
              <a:t>Back to glossar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Thrus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Thrust is what pushes planes through the ai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Picture 4" descr="C:\Program Files\Microsoft Office\Media\CntCD1\Photo1\j0178707.jpg"/>
          <p:cNvPicPr/>
          <p:nvPr/>
        </p:nvPicPr>
        <p:blipFill>
          <a:blip r:embed="rId1"/>
          <a:stretch/>
        </p:blipFill>
        <p:spPr>
          <a:xfrm>
            <a:off x="1857240" y="2786040"/>
            <a:ext cx="5988240" cy="3191040"/>
          </a:xfrm>
          <a:prstGeom prst="rect">
            <a:avLst/>
          </a:prstGeom>
          <a:ln w="0">
            <a:noFill/>
          </a:ln>
        </p:spPr>
      </p:pic>
      <p:sp>
        <p:nvSpPr>
          <p:cNvPr id="219" name="TextBox 4"/>
          <p:cNvSpPr/>
          <p:nvPr/>
        </p:nvSpPr>
        <p:spPr>
          <a:xfrm>
            <a:off x="428760" y="5786280"/>
            <a:ext cx="17859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Arial"/>
              </a:rPr>
              <a:t>Back to glossar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Flap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Flaps make the plane change direction ,height and spe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2" name="Picture 4" descr="C:\Program Files\Microsoft Office\Media\CntCD1\ClipArt6\j0290819.wmf"/>
          <p:cNvPicPr/>
          <p:nvPr/>
        </p:nvPicPr>
        <p:blipFill>
          <a:blip r:embed="rId1"/>
          <a:stretch/>
        </p:blipFill>
        <p:spPr>
          <a:xfrm>
            <a:off x="1643040" y="2786040"/>
            <a:ext cx="6286680" cy="3205080"/>
          </a:xfrm>
          <a:prstGeom prst="rect">
            <a:avLst/>
          </a:prstGeom>
          <a:ln w="0">
            <a:noFill/>
          </a:ln>
        </p:spPr>
      </p:pic>
      <p:sp>
        <p:nvSpPr>
          <p:cNvPr id="223" name="TextBox 4"/>
          <p:cNvSpPr/>
          <p:nvPr/>
        </p:nvSpPr>
        <p:spPr>
          <a:xfrm>
            <a:off x="428760" y="5929200"/>
            <a:ext cx="17859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Arial"/>
              </a:rPr>
              <a:t>Back to glossar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Launch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Launch is when a plane takes off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4" descr="C:\Program Files\Microsoft Office\Media\CntCD1\ClipArt6\j0297745.wmf"/>
          <p:cNvPicPr/>
          <p:nvPr/>
        </p:nvPicPr>
        <p:blipFill>
          <a:blip r:embed="rId1"/>
          <a:stretch/>
        </p:blipFill>
        <p:spPr>
          <a:xfrm>
            <a:off x="1143000" y="2571840"/>
            <a:ext cx="7332840" cy="3929040"/>
          </a:xfrm>
          <a:prstGeom prst="rect">
            <a:avLst/>
          </a:prstGeom>
          <a:ln w="0">
            <a:noFill/>
          </a:ln>
        </p:spPr>
      </p:pic>
      <p:sp>
        <p:nvSpPr>
          <p:cNvPr id="227" name="TextBox 4"/>
          <p:cNvSpPr/>
          <p:nvPr/>
        </p:nvSpPr>
        <p:spPr>
          <a:xfrm>
            <a:off x="285840" y="5929200"/>
            <a:ext cx="17859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Arial"/>
              </a:rPr>
              <a:t>Back to glossar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Alof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Aloft is when a plane is in the air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0" name="Picture 6" descr="d:\Users\harrisonv.STAWELL-PS\AppData\Local\Microsoft\Windows\Temporary Internet Files\Content.IE5\4L3IUXGI\MPj04286700000[1].jpg"/>
          <p:cNvPicPr/>
          <p:nvPr/>
        </p:nvPicPr>
        <p:blipFill>
          <a:blip r:embed="rId1"/>
          <a:stretch/>
        </p:blipFill>
        <p:spPr>
          <a:xfrm>
            <a:off x="2643120" y="3000240"/>
            <a:ext cx="5929560" cy="3638520"/>
          </a:xfrm>
          <a:prstGeom prst="rect">
            <a:avLst/>
          </a:prstGeom>
          <a:ln w="0">
            <a:noFill/>
          </a:ln>
        </p:spPr>
      </p:pic>
      <p:sp>
        <p:nvSpPr>
          <p:cNvPr id="231" name="TextBox 4"/>
          <p:cNvSpPr/>
          <p:nvPr/>
        </p:nvSpPr>
        <p:spPr>
          <a:xfrm>
            <a:off x="0" y="6286680"/>
            <a:ext cx="2571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Arial"/>
              </a:rPr>
              <a:t>Back to glossar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engin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An engine is what pushes a plane through the ai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Arial"/>
                <a:ea typeface="Arial"/>
              </a:rPr>
              <a:t>Back to glossary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4" name="Picture 5" descr="d:\Users\harrisonv.STAWELL-PS\AppData\Local\Microsoft\Windows\Temporary Internet Files\Content.IE5\F3P6WDAJ\MPj04223290000[1].jpg"/>
          <p:cNvPicPr/>
          <p:nvPr/>
        </p:nvPicPr>
        <p:blipFill>
          <a:blip r:embed="rId1"/>
          <a:stretch/>
        </p:blipFill>
        <p:spPr>
          <a:xfrm>
            <a:off x="2786040" y="2500200"/>
            <a:ext cx="6000840" cy="41436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6T23:46:13Z</dcterms:created>
  <dc:creator>Education</dc:creator>
  <dc:description/>
  <dc:language>en-US</dc:language>
  <cp:lastModifiedBy>Education</cp:lastModifiedBy>
  <dcterms:modified xsi:type="dcterms:W3CDTF">2009-07-31T00:16:27Z</dcterms:modified>
  <cp:revision>12</cp:revision>
  <dc:subject/>
  <dc:title>FLIGHT Glossary</dc:title>
</cp:coreProperties>
</file>